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9484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520" y="1479600"/>
            <a:ext cx="82296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520" y="3953880"/>
            <a:ext cx="82296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520" y="1479600"/>
            <a:ext cx="40158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2560" y="1479600"/>
            <a:ext cx="40158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520" y="3953880"/>
            <a:ext cx="40158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2560" y="3953880"/>
            <a:ext cx="40158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520" y="1479600"/>
            <a:ext cx="26496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960" y="1479600"/>
            <a:ext cx="26496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0400" y="1479600"/>
            <a:ext cx="26496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520" y="3953880"/>
            <a:ext cx="26496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960" y="3953880"/>
            <a:ext cx="26496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0400" y="3953880"/>
            <a:ext cx="26496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25520" y="1479600"/>
            <a:ext cx="8229600" cy="47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25520" y="1479600"/>
            <a:ext cx="8229600" cy="47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5520" y="1479600"/>
            <a:ext cx="4015800" cy="47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2560" y="1479600"/>
            <a:ext cx="4015800" cy="47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25520" y="206280"/>
            <a:ext cx="822960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5520" y="1479600"/>
            <a:ext cx="40158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2560" y="1479600"/>
            <a:ext cx="4015800" cy="47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25520" y="3953880"/>
            <a:ext cx="40158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520" y="1479600"/>
            <a:ext cx="8229600" cy="47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5520" y="1479600"/>
            <a:ext cx="4015800" cy="47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2560" y="1479600"/>
            <a:ext cx="40158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2560" y="3953880"/>
            <a:ext cx="40158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5520" y="1479600"/>
            <a:ext cx="40158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2560" y="1479600"/>
            <a:ext cx="40158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25520" y="3953880"/>
            <a:ext cx="82296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25520" y="1479600"/>
            <a:ext cx="82296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5520" y="3953880"/>
            <a:ext cx="82296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5520" y="1479600"/>
            <a:ext cx="40158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2560" y="1479600"/>
            <a:ext cx="40158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25520" y="3953880"/>
            <a:ext cx="40158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2560" y="3953880"/>
            <a:ext cx="40158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25520" y="1479600"/>
            <a:ext cx="26496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960" y="1479600"/>
            <a:ext cx="26496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0400" y="1479600"/>
            <a:ext cx="26496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5520" y="3953880"/>
            <a:ext cx="26496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960" y="3953880"/>
            <a:ext cx="26496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0400" y="3953880"/>
            <a:ext cx="26496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520" y="1479600"/>
            <a:ext cx="8229600" cy="47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520" y="1479600"/>
            <a:ext cx="4015800" cy="47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2560" y="1479600"/>
            <a:ext cx="4015800" cy="47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520" y="206280"/>
            <a:ext cx="822960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520" y="1479600"/>
            <a:ext cx="40158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2560" y="1479600"/>
            <a:ext cx="4015800" cy="47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520" y="3953880"/>
            <a:ext cx="40158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520" y="1479600"/>
            <a:ext cx="4015800" cy="47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2560" y="1479600"/>
            <a:ext cx="40158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2560" y="3953880"/>
            <a:ext cx="40158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520" y="1479600"/>
            <a:ext cx="40158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2560" y="1479600"/>
            <a:ext cx="40158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520" y="3953880"/>
            <a:ext cx="82296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16208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524720" y="6354720"/>
            <a:ext cx="1496880" cy="42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25520" y="1479600"/>
            <a:ext cx="8229600" cy="47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a9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a9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6399360"/>
            <a:ext cx="7529400" cy="2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62260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02912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592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a99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a99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a99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592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nl-NL" sz="3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nl-NL" sz="3800" spc="-1" strike="noStrike">
                <a:solidFill>
                  <a:srgbClr val="000000"/>
                </a:solidFill>
                <a:latin typeface="Arial"/>
              </a:rPr>
              <a:t>: neXt pleX Xml fleXibility eXperience: Xform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990720" y="5028840"/>
            <a:ext cx="778032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Willem de Vries, Remi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Simon Jasperse, Kibok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35760" y="587520"/>
            <a:ext cx="28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Session No. 10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ffffff"/>
                </a:solidFill>
                <a:latin typeface="Arial"/>
              </a:rPr>
              <a:t>Some requirements for documents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25520" y="1479600"/>
            <a:ext cx="8229600" cy="47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orm-like interface to offer ‘guidance’ and 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asily configurable (as Word / Excel templa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tegration with Plex-application based upon data-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uctured (XML-) document to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earchability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tegration-facilities in back-off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ffffff"/>
                </a:solidFill>
                <a:latin typeface="Arial"/>
              </a:rPr>
              <a:t>Possible directions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25520" y="1479600"/>
            <a:ext cx="8229600" cy="47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tova’s Authen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crosoft’s Info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ripting a generalized HTML-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XForms: W3C next generation HTML-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romise of ‘open standard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mbitious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Growing support by implemen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ffffff"/>
                </a:solidFill>
                <a:latin typeface="Arial"/>
              </a:rPr>
              <a:t>Global features of XForms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25520" y="1479600"/>
            <a:ext cx="8229600" cy="47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vents, Actions and Validation: decla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Full support for XPath for ‘calculations’ and ‘validations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chema-support for data-types and valid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lean separation of data logic and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ghly regular XM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bstract controls for device-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rocessor ‘decides’ the actual ‘presentation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.g. Full browser, Mobile phone, Voice…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ffffff"/>
                </a:solidFill>
                <a:latin typeface="Arial"/>
              </a:rPr>
              <a:t>Flexibility: more to wish ?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25160" y="1479600"/>
            <a:ext cx="8566200" cy="47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fp:model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id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m_model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fp:instance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id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m_doc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Contract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xmlns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="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Relatie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NodeID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Relatienaam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urodisney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Relatienaam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Relatie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Currency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Currency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ContractDate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gt;&lt;/</a:t>
            </a: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ContractDate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ContractDetails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DetailLine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Subtotal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DetailLine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ContractDetails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Contract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fp:instance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fp:bind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id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nDate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nodeset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/Contract/ContractDate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required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rue()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type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xsd:date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fp:bind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id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lNaam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nodeset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/Contract/Relatie/Relatienaam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required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rue()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fp:bind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nodeset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/Contract/ContractDetails/DetailLine/Subtotal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calculate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../Quantity * ../Price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readonly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rue()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fp:submission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id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m_submit1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replace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ne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action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method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ost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ref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stance('rm_doc')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fp:model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ffffff"/>
                </a:solidFill>
                <a:latin typeface="Arial"/>
              </a:rPr>
              <a:t>Main elements: model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1440" y="1600200"/>
            <a:ext cx="595116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body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fp:input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bind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nDate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fp:label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ntract Date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fp:label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fp:alert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ease enter a value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fp:alert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fp:input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fp:select1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bind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style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isplay:inline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fp:label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urrency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fp:label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fp:item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style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idth: 200px;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fp:label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&gt;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uro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fp:label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fp:value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fp:value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fp:item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fp:select1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fp:repeat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id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nodeset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/Contract/ContractDetails/DetailLine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fp:output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ref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ubtotal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fp:label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ubtotal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fp:label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fp:output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fp:repeat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fp:submit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submission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m_submit1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fp:label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Ready 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fp:label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fp:submit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body</a:t>
            </a: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ffffff"/>
                </a:solidFill>
                <a:latin typeface="Arial"/>
              </a:rPr>
              <a:t>Main elements: resul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219320"/>
          <a:ext cx="4529160" cy="518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219320"/>
                    <a:ext cx="4529160" cy="5181480"/>
                  </a:xfrm>
                  <a:prstGeom prst="rect">
                    <a:avLst/>
                  </a:prstGeom>
                  <a:ln w="9360">
                    <a:solidFill>
                      <a:srgbClr val="00b29d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ffffff"/>
                </a:solidFill>
                <a:latin typeface="Arial"/>
              </a:rPr>
              <a:t>Implementations (examples)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5520" y="1479600"/>
            <a:ext cx="8229600" cy="47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lient-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zquito DENG (Flas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a9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pported in every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X-Smiles (Jav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a9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ong device-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X-port Formsplayer (IE 6 plug-i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a9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urrently most complete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erver-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hiba (open sour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vell’s exteNd (Silverstream)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Mozil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BM’s Xforms Package (Alphaworks)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Mozil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ffffff"/>
                </a:solidFill>
                <a:latin typeface="Arial"/>
              </a:rPr>
              <a:t>The pilot: XForms-Documents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25520" y="1479600"/>
            <a:ext cx="8229600" cy="47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velopment of a new “DocProgramm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sulting document is 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terfacing from application-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orm based on X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n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maller documents (storage / transfe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rocessing by back-office appl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ffffff"/>
                </a:solidFill>
                <a:latin typeface="Arial"/>
              </a:rPr>
              <a:t>Xforms Demo: Document Flow 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4572000"/>
            <a:ext cx="82296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cumen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vel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through organisation “workflow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pproval / Edit / Distribution /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600200"/>
          <a:ext cx="8381880" cy="254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381880" cy="25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ffffff"/>
                </a:solidFill>
                <a:latin typeface="Arial"/>
              </a:rPr>
              <a:t>Xforms Demo: Documentflow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25520" y="5029200"/>
            <a:ext cx="82296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figuration determines document flow /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allocated by user functio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do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28600" y="2362320"/>
          <a:ext cx="2743200" cy="223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362320"/>
                    <a:ext cx="2743200" cy="2233440"/>
                  </a:xfrm>
                  <a:prstGeom prst="rect">
                    <a:avLst/>
                  </a:prstGeom>
                  <a:ln w="9360">
                    <a:solidFill>
                      <a:srgbClr val="00b29d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3352680" y="1371600"/>
          <a:ext cx="4648320" cy="3651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52680" y="1371600"/>
                    <a:ext cx="4648320" cy="36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25520" y="1479600"/>
            <a:ext cx="8229600" cy="47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ackground: Flexibility and 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XForms: positioning and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pplication within Remia’s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XForms: inside th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ffffff"/>
                </a:solidFill>
                <a:latin typeface="Arial"/>
              </a:rPr>
              <a:t>Xforms Demo: Documentflow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723920"/>
            <a:ext cx="8229600" cy="11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ser can start document types based on use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a style refers to programme (word / xFor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295280" y="1447920"/>
            <a:ext cx="6782040" cy="3343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ffffff"/>
                </a:solidFill>
                <a:latin typeface="Arial"/>
              </a:rPr>
              <a:t>Xforms Demo: The Application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25520" y="5029200"/>
            <a:ext cx="82296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52480" y="1676520"/>
            <a:ext cx="5639040" cy="3036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160" y="206280"/>
            <a:ext cx="902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ffffff"/>
                </a:solidFill>
                <a:latin typeface="Arial"/>
              </a:rPr>
              <a:t>Xforms Demo: Create xForm Documen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Xform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rite Relation data to C/temp/</a:t>
            </a:r>
            <a:r>
              <a:rPr b="1" lang="nl-NL" sz="2000" spc="-1" strike="noStrike">
                <a:solidFill>
                  <a:srgbClr val="000099"/>
                </a:solidFill>
                <a:latin typeface="Arial"/>
              </a:rPr>
              <a:t>naw.x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uses Remia XML patter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t </a:t>
            </a:r>
            <a:r>
              <a:rPr b="1" lang="nl-NL" sz="2000" spc="-1" strike="noStrike">
                <a:solidFill>
                  <a:srgbClr val="000099"/>
                </a:solidFill>
                <a:latin typeface="Arial"/>
              </a:rPr>
              <a:t>contract.xhtm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location on file system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on database/registry inf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ad </a:t>
            </a:r>
            <a:r>
              <a:rPr b="1" lang="nl-NL" sz="2000" spc="-1" strike="noStrike">
                <a:solidFill>
                  <a:srgbClr val="000099"/>
                </a:solidFill>
                <a:latin typeface="Arial"/>
              </a:rPr>
              <a:t>contract.xhtm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into XML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ad </a:t>
            </a:r>
            <a:r>
              <a:rPr b="1" lang="nl-NL" sz="2000" spc="-1" strike="noStrike">
                <a:solidFill>
                  <a:srgbClr val="000099"/>
                </a:solidFill>
                <a:latin typeface="Arial"/>
              </a:rPr>
              <a:t>naw.xm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into XMLDOM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rse </a:t>
            </a:r>
            <a:r>
              <a:rPr b="1" lang="nl-NL" sz="2000" spc="-1" strike="noStrike">
                <a:solidFill>
                  <a:srgbClr val="000099"/>
                </a:solidFill>
                <a:latin typeface="Arial"/>
              </a:rPr>
              <a:t>naw.xm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data into </a:t>
            </a:r>
            <a:r>
              <a:rPr b="1" lang="nl-NL" sz="2000" spc="-1" strike="noStrike">
                <a:solidFill>
                  <a:srgbClr val="000099"/>
                </a:solidFill>
                <a:latin typeface="Arial"/>
              </a:rPr>
              <a:t>contract.xhtm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.Model.in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ave as C/temp/</a:t>
            </a:r>
            <a:r>
              <a:rPr b="1" lang="nl-NL" sz="2000" spc="-1" strike="noStrike">
                <a:solidFill>
                  <a:srgbClr val="000099"/>
                </a:solidFill>
                <a:latin typeface="Arial"/>
              </a:rPr>
              <a:t>myForm.x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splay </a:t>
            </a:r>
            <a:r>
              <a:rPr b="1" lang="nl-NL" sz="2000" spc="-1" strike="noStrike">
                <a:solidFill>
                  <a:srgbClr val="000099"/>
                </a:solidFill>
                <a:latin typeface="Arial"/>
              </a:rPr>
              <a:t>myForm.xhtm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in Shdocv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ave instance XML as </a:t>
            </a:r>
            <a:r>
              <a:rPr b="1" lang="nl-NL" sz="2000" spc="-1" strike="noStrike">
                <a:solidFill>
                  <a:srgbClr val="000099"/>
                </a:solidFill>
                <a:latin typeface="Arial"/>
              </a:rPr>
              <a:t>7315.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438280" cy="1312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1219320" y="1371600"/>
          <a:ext cx="6172200" cy="448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371600"/>
                    <a:ext cx="6172200" cy="44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371600" y="2057400"/>
          <a:ext cx="4597560" cy="3683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71600" y="2057400"/>
                    <a:ext cx="4597560" cy="3683160"/>
                  </a:xfrm>
                  <a:prstGeom prst="rect">
                    <a:avLst/>
                  </a:prstGeom>
                  <a:ln w="9360">
                    <a:solidFill>
                      <a:srgbClr val="00b29d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71848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ffffff"/>
                </a:solidFill>
                <a:latin typeface="Arial"/>
              </a:rPr>
              <a:t>Xforms Demo: Create xForm Documen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209680" y="2743200"/>
          <a:ext cx="3657600" cy="2901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09680" y="2743200"/>
                    <a:ext cx="3657600" cy="2901960"/>
                  </a:xfrm>
                  <a:prstGeom prst="rect">
                    <a:avLst/>
                  </a:prstGeom>
                  <a:ln w="9360">
                    <a:solidFill>
                      <a:srgbClr val="00b29d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1219320" y="1371600"/>
            <a:ext cx="6172200" cy="4471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ffffff"/>
                </a:solidFill>
                <a:latin typeface="Arial"/>
              </a:rPr>
              <a:t>Xforms Demo: Saved XML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257800" y="266688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act XML saved on file system as 7568.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1219320"/>
          <a:ext cx="4529160" cy="518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219320"/>
                    <a:ext cx="4529160" cy="5181480"/>
                  </a:xfrm>
                  <a:prstGeom prst="rect">
                    <a:avLst/>
                  </a:prstGeom>
                  <a:ln w="9360">
                    <a:solidFill>
                      <a:srgbClr val="00b29d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206280"/>
            <a:ext cx="85028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ffffff"/>
                </a:solidFill>
                <a:latin typeface="Arial"/>
              </a:rPr>
              <a:t>Xforms Demo: Edit xForm Documen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25520" y="5029200"/>
            <a:ext cx="82296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219320" y="1371600"/>
          <a:ext cx="6172200" cy="448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371600"/>
                    <a:ext cx="6172200" cy="44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1371600" y="2030400"/>
          <a:ext cx="5410080" cy="365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71600" y="2030400"/>
                    <a:ext cx="5410080" cy="3656160"/>
                  </a:xfrm>
                  <a:prstGeom prst="rect">
                    <a:avLst/>
                  </a:prstGeom>
                  <a:ln w="9360">
                    <a:solidFill>
                      <a:srgbClr val="00b29d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819520" y="1828800"/>
          <a:ext cx="3396960" cy="3886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19520" y="1828800"/>
                    <a:ext cx="3396960" cy="3886200"/>
                  </a:xfrm>
                  <a:prstGeom prst="rect">
                    <a:avLst/>
                  </a:prstGeom>
                  <a:ln w="9360">
                    <a:solidFill>
                      <a:srgbClr val="00b29d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60" name="" descr=""/>
          <p:cNvPicPr/>
          <p:nvPr/>
        </p:nvPicPr>
        <p:blipFill>
          <a:blip r:embed="rId8"/>
          <a:stretch/>
        </p:blipFill>
        <p:spPr>
          <a:xfrm>
            <a:off x="1219320" y="1371600"/>
            <a:ext cx="6172200" cy="4471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ffffff"/>
                </a:solidFill>
                <a:latin typeface="Arial"/>
              </a:rPr>
              <a:t>Xforms Demo: xForm Functionality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25520" y="5029200"/>
            <a:ext cx="82296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219320" y="1447920"/>
            <a:ext cx="6248160" cy="45273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162920" y="5867280"/>
            <a:ext cx="1752480" cy="381240"/>
          </a:xfrm>
          <a:prstGeom prst="wedgeRoundRectCallout">
            <a:avLst>
              <a:gd name="adj1" fmla="val -83425"/>
              <a:gd name="adj2" fmla="val -278333"/>
              <a:gd name="adj3" fmla="val 16667"/>
            </a:avLst>
          </a:prstGeom>
          <a:solidFill>
            <a:srgbClr val="97d5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28600" y="1295280"/>
            <a:ext cx="1752480" cy="381240"/>
            <a:chOff x="228600" y="1295280"/>
            <a:chExt cx="1752480" cy="381240"/>
          </a:xfrm>
        </p:grpSpPr>
        <p:sp>
          <p:nvSpPr>
            <p:cNvPr id="166" name=""/>
            <p:cNvSpPr/>
            <p:nvPr/>
          </p:nvSpPr>
          <p:spPr>
            <a:xfrm>
              <a:off x="228600" y="1295280"/>
              <a:ext cx="1752480" cy="381240"/>
            </a:xfrm>
            <a:prstGeom prst="wedgeRoundRectCallout">
              <a:avLst>
                <a:gd name="adj1" fmla="val 89402"/>
                <a:gd name="adj2" fmla="val 370833"/>
                <a:gd name="adj3" fmla="val 16667"/>
              </a:avLst>
            </a:prstGeom>
            <a:solidFill>
              <a:srgbClr val="97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Repea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28600" y="1295280"/>
              <a:ext cx="1752480" cy="381240"/>
            </a:xfrm>
            <a:prstGeom prst="wedgeRoundRectCallout">
              <a:avLst>
                <a:gd name="adj1" fmla="val 123550"/>
                <a:gd name="adj2" fmla="val 177083"/>
                <a:gd name="adj3" fmla="val 16667"/>
              </a:avLst>
            </a:prstGeom>
            <a:solidFill>
              <a:srgbClr val="97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Bi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162920" y="2666880"/>
            <a:ext cx="1981080" cy="381240"/>
          </a:xfrm>
          <a:prstGeom prst="wedgeRoundRectCallout">
            <a:avLst>
              <a:gd name="adj1" fmla="val -86861"/>
              <a:gd name="adj2" fmla="val 231666"/>
              <a:gd name="adj3" fmla="val 16667"/>
            </a:avLst>
          </a:prstGeom>
          <a:solidFill>
            <a:srgbClr val="97d5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Ty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762120" y="6172200"/>
            <a:ext cx="1752480" cy="685800"/>
            <a:chOff x="762120" y="6172200"/>
            <a:chExt cx="1752480" cy="685800"/>
          </a:xfrm>
        </p:grpSpPr>
        <p:grpSp>
          <p:nvGrpSpPr>
            <p:cNvPr id="170" name=""/>
            <p:cNvGrpSpPr/>
            <p:nvPr/>
          </p:nvGrpSpPr>
          <p:grpSpPr>
            <a:xfrm>
              <a:off x="762120" y="6172200"/>
              <a:ext cx="1752480" cy="685800"/>
              <a:chOff x="762120" y="6172200"/>
              <a:chExt cx="1752480" cy="685800"/>
            </a:xfrm>
          </p:grpSpPr>
          <p:sp>
            <p:nvSpPr>
              <p:cNvPr id="171" name=""/>
              <p:cNvSpPr/>
              <p:nvPr/>
            </p:nvSpPr>
            <p:spPr>
              <a:xfrm>
                <a:off x="762120" y="6172200"/>
                <a:ext cx="1752480" cy="685800"/>
              </a:xfrm>
              <a:prstGeom prst="wedgeRoundRectCallout">
                <a:avLst>
                  <a:gd name="adj1" fmla="val 117027"/>
                  <a:gd name="adj2" fmla="val -339120"/>
                  <a:gd name="adj3" fmla="val 16667"/>
                </a:avLst>
              </a:prstGeom>
              <a:solidFill>
                <a:srgbClr val="97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ind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Calculat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62120" y="6172200"/>
                <a:ext cx="1752480" cy="685800"/>
              </a:xfrm>
              <a:prstGeom prst="wedgeRoundRectCallout">
                <a:avLst>
                  <a:gd name="adj1" fmla="val 247824"/>
                  <a:gd name="adj2" fmla="val -222916"/>
                  <a:gd name="adj3" fmla="val 16667"/>
                </a:avLst>
              </a:prstGeom>
              <a:solidFill>
                <a:srgbClr val="97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ind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Calculat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62120" y="6172200"/>
                <a:ext cx="1752480" cy="685800"/>
              </a:xfrm>
              <a:prstGeom prst="wedgeRoundRectCallout">
                <a:avLst>
                  <a:gd name="adj1" fmla="val 118842"/>
                  <a:gd name="adj2" fmla="val -234722"/>
                  <a:gd name="adj3" fmla="val 16667"/>
                </a:avLst>
              </a:prstGeom>
              <a:solidFill>
                <a:srgbClr val="97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ind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Calculat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762120" y="6172200"/>
              <a:ext cx="1752480" cy="685800"/>
            </a:xfrm>
            <a:prstGeom prst="wedgeRoundRectCallout">
              <a:avLst>
                <a:gd name="adj1" fmla="val 190851"/>
                <a:gd name="adj2" fmla="val -232870"/>
                <a:gd name="adj3" fmla="val 16667"/>
              </a:avLst>
            </a:prstGeom>
            <a:solidFill>
              <a:srgbClr val="97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Bin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alcul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0" y="3429000"/>
            <a:ext cx="1219320" cy="380880"/>
            <a:chOff x="0" y="3429000"/>
            <a:chExt cx="1219320" cy="380880"/>
          </a:xfrm>
        </p:grpSpPr>
        <p:sp>
          <p:nvSpPr>
            <p:cNvPr id="176" name=""/>
            <p:cNvSpPr/>
            <p:nvPr/>
          </p:nvSpPr>
          <p:spPr>
            <a:xfrm>
              <a:off x="0" y="3429000"/>
              <a:ext cx="1219320" cy="380880"/>
            </a:xfrm>
            <a:prstGeom prst="wedgeRoundRectCallout">
              <a:avLst>
                <a:gd name="adj1" fmla="val 72657"/>
                <a:gd name="adj2" fmla="val 535833"/>
                <a:gd name="adj3" fmla="val 16667"/>
              </a:avLst>
            </a:prstGeom>
            <a:solidFill>
              <a:srgbClr val="97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v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3429000"/>
              <a:ext cx="1219320" cy="380880"/>
            </a:xfrm>
            <a:prstGeom prst="wedgeRoundRectCallout">
              <a:avLst>
                <a:gd name="adj1" fmla="val 92319"/>
                <a:gd name="adj2" fmla="val 212083"/>
                <a:gd name="adj3" fmla="val 16667"/>
              </a:avLst>
            </a:prstGeom>
            <a:solidFill>
              <a:srgbClr val="97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v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590920" y="3276720"/>
            <a:ext cx="342900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Script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ffffff"/>
                </a:solidFill>
                <a:latin typeface="Arial"/>
              </a:rPr>
              <a:t>Xforms Demo: Documents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038480" y="3657600"/>
            <a:ext cx="454032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XML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609480" y="1295280"/>
          <a:ext cx="2960640" cy="495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295280"/>
                    <a:ext cx="296064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ffffff"/>
                </a:solidFill>
                <a:latin typeface="Arial"/>
              </a:rPr>
              <a:t>Xforms Demo: Plex Integration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25520" y="5029200"/>
            <a:ext cx="82296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219320" y="1447920"/>
            <a:ext cx="6248160" cy="452736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1295280" y="1295280"/>
            <a:ext cx="6858000" cy="4572000"/>
            <a:chOff x="1295280" y="1295280"/>
            <a:chExt cx="6858000" cy="4572000"/>
          </a:xfrm>
        </p:grpSpPr>
        <p:sp>
          <p:nvSpPr>
            <p:cNvPr id="187" name=""/>
            <p:cNvSpPr/>
            <p:nvPr/>
          </p:nvSpPr>
          <p:spPr>
            <a:xfrm>
              <a:off x="1295280" y="1828800"/>
              <a:ext cx="6096240" cy="4038480"/>
            </a:xfrm>
            <a:prstGeom prst="rect">
              <a:avLst/>
            </a:prstGeom>
            <a:solidFill>
              <a:srgbClr val="97d5cd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553080" y="1295280"/>
              <a:ext cx="1600200" cy="533520"/>
            </a:xfrm>
            <a:prstGeom prst="wedgeRoundRectCallout">
              <a:avLst>
                <a:gd name="adj1" fmla="val -152083"/>
                <a:gd name="adj2" fmla="val 388689"/>
                <a:gd name="adj3" fmla="val 16667"/>
              </a:avLst>
            </a:prstGeom>
            <a:solidFill>
              <a:srgbClr val="97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hdocv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523880" y="1523880"/>
            <a:ext cx="6858000" cy="4191120"/>
            <a:chOff x="1523880" y="1523880"/>
            <a:chExt cx="6858000" cy="4191120"/>
          </a:xfrm>
        </p:grpSpPr>
        <p:sp>
          <p:nvSpPr>
            <p:cNvPr id="190" name=""/>
            <p:cNvSpPr/>
            <p:nvPr/>
          </p:nvSpPr>
          <p:spPr>
            <a:xfrm>
              <a:off x="6705720" y="1523880"/>
              <a:ext cx="1676160" cy="533520"/>
            </a:xfrm>
            <a:prstGeom prst="wedgeRoundRectCallout">
              <a:avLst>
                <a:gd name="adj1" fmla="val -155300"/>
                <a:gd name="adj2" fmla="val 346430"/>
                <a:gd name="adj3" fmla="val 16667"/>
              </a:avLst>
            </a:prstGeom>
            <a:solidFill>
              <a:srgbClr val="00b29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XHTM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523880" y="1981080"/>
              <a:ext cx="5639040" cy="3733920"/>
            </a:xfrm>
            <a:prstGeom prst="rect">
              <a:avLst/>
            </a:prstGeom>
            <a:solidFill>
              <a:srgbClr val="00b29d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676520" y="1905120"/>
            <a:ext cx="7010280" cy="3504960"/>
            <a:chOff x="1676520" y="1905120"/>
            <a:chExt cx="7010280" cy="3504960"/>
          </a:xfrm>
        </p:grpSpPr>
        <p:sp>
          <p:nvSpPr>
            <p:cNvPr id="193" name=""/>
            <p:cNvSpPr/>
            <p:nvPr/>
          </p:nvSpPr>
          <p:spPr>
            <a:xfrm>
              <a:off x="1676520" y="2057400"/>
              <a:ext cx="5333760" cy="3352680"/>
            </a:xfrm>
            <a:prstGeom prst="rect">
              <a:avLst/>
            </a:prstGeom>
            <a:solidFill>
              <a:srgbClr val="00907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10280" y="1905120"/>
              <a:ext cx="1676520" cy="533160"/>
            </a:xfrm>
            <a:prstGeom prst="wedgeRoundRectCallout">
              <a:avLst>
                <a:gd name="adj1" fmla="val -172064"/>
                <a:gd name="adj2" fmla="val 258629"/>
                <a:gd name="adj3" fmla="val 16667"/>
              </a:avLst>
            </a:prstGeom>
            <a:solidFill>
              <a:srgbClr val="0090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XM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52280" y="1295280"/>
            <a:ext cx="1600200" cy="533520"/>
          </a:xfrm>
          <a:prstGeom prst="wedgeRoundRectCallout">
            <a:avLst>
              <a:gd name="adj1" fmla="val 18550"/>
              <a:gd name="adj2" fmla="val 18095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52480" y="6172200"/>
            <a:ext cx="3124440" cy="457200"/>
          </a:xfrm>
          <a:prstGeom prst="wedgeRoundRectCallout">
            <a:avLst>
              <a:gd name="adj1" fmla="val -58893"/>
              <a:gd name="adj2" fmla="val -16458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ranslate to  Logical Ev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828800" y="2133720"/>
            <a:ext cx="6858000" cy="3047760"/>
            <a:chOff x="1828800" y="2133720"/>
            <a:chExt cx="6858000" cy="3047760"/>
          </a:xfrm>
        </p:grpSpPr>
        <p:sp>
          <p:nvSpPr>
            <p:cNvPr id="198" name=""/>
            <p:cNvSpPr/>
            <p:nvPr/>
          </p:nvSpPr>
          <p:spPr>
            <a:xfrm>
              <a:off x="1828800" y="2133720"/>
              <a:ext cx="5029200" cy="3047760"/>
            </a:xfrm>
            <a:prstGeom prst="rect">
              <a:avLst/>
            </a:prstGeom>
            <a:solidFill>
              <a:srgbClr val="006a5d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010280" y="2286000"/>
              <a:ext cx="1676520" cy="533520"/>
            </a:xfrm>
            <a:prstGeom prst="wedgeRoundRectCallout">
              <a:avLst>
                <a:gd name="adj1" fmla="val -173865"/>
                <a:gd name="adj2" fmla="val 202976"/>
                <a:gd name="adj3" fmla="val 16667"/>
              </a:avLst>
            </a:prstGeom>
            <a:solidFill>
              <a:srgbClr val="006a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ormsplay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ffffff"/>
                </a:solidFill>
                <a:latin typeface="Arial"/>
              </a:rPr>
              <a:t>Xforms Demo: Register Even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6248520" y="1447920"/>
          <a:ext cx="2666880" cy="117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1447920"/>
                    <a:ext cx="2666880" cy="117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457200" y="1752480"/>
            <a:ext cx="84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bBrowser1.Navigate </a:t>
            </a:r>
            <a:r>
              <a:rPr b="1" lang="en-GB" sz="1400" spc="-1" strike="noStrike">
                <a:solidFill>
                  <a:srgbClr val="fe4122"/>
                </a:solidFill>
                <a:latin typeface="Arial"/>
              </a:rPr>
              <a:t>File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81680" y="1905120"/>
            <a:ext cx="2057400" cy="228600"/>
          </a:xfrm>
          <a:prstGeom prst="rect">
            <a:avLst/>
          </a:prstGeom>
          <a:solidFill>
            <a:srgbClr val="97d5c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1905120"/>
            <a:ext cx="8458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RegisterForEven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evtSource,evtName,HandlerName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' get a pointer to the function with the given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m fpHand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t fpHandler = getRef(HandlerNam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'bind it to the requested event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vtSource.attachEvent evtName,fpHandler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3886200"/>
            <a:ext cx="8458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 WebBrowser1_DocumentComplete(pDisp, UR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g_document = WebBrowser1.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RegisterForEvent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_document.getElementById(</a:t>
            </a:r>
            <a:r>
              <a:rPr b="1" lang="en-GB" sz="1400" spc="-1" strike="noStrike">
                <a:solidFill>
                  <a:srgbClr val="fe4122"/>
                </a:solidFill>
                <a:latin typeface="Arial"/>
              </a:rPr>
              <a:t>submitID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, "xforms-submit-done","getAddr_Submit_Done"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5105520"/>
            <a:ext cx="8458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unction getAddr_Submit_Done(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Ad.LogicalEvent("xfSubmit"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25520" y="1479600"/>
            <a:ext cx="8229600" cy="47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mia: Manufacturer of Sauces and Marga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iboko: Independent software consult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ftware development in 2E and 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ategic choice for model based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velopment spe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Reduced mainten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attern-advantage main reason for 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ffffff"/>
                </a:solidFill>
                <a:latin typeface="Arial"/>
              </a:rPr>
              <a:t>Xforms Demo: Save Instanc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248520" y="1447920"/>
          <a:ext cx="2666880" cy="117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1447920"/>
                    <a:ext cx="2666880" cy="117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066680" y="3048120"/>
            <a:ext cx="60199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LogicalEvent("xfSubmit"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t g_document = WebBrowser1.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t model = g_document.getElementById(</a:t>
            </a:r>
            <a:r>
              <a:rPr b="1" lang="en-GB" sz="1400" spc="-1" strike="noStrike">
                <a:solidFill>
                  <a:srgbClr val="fe4122"/>
                </a:solidFill>
                <a:latin typeface="Arial"/>
              </a:rPr>
              <a:t>ModelID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t formDoc = model.getInstanceDocument(</a:t>
            </a:r>
            <a:r>
              <a:rPr b="1" lang="en-GB" sz="1400" spc="-1" strike="noStrike">
                <a:solidFill>
                  <a:srgbClr val="fe4122"/>
                </a:solidFill>
                <a:latin typeface="Arial"/>
              </a:rPr>
              <a:t>InstanceID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mDoc.save (</a:t>
            </a:r>
            <a:r>
              <a:rPr b="1" lang="en-GB" sz="1400" spc="-1" strike="noStrike">
                <a:solidFill>
                  <a:srgbClr val="fe4122"/>
                </a:solidFill>
                <a:latin typeface="Arial"/>
              </a:rPr>
              <a:t>FileNam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 sub termin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2362320"/>
            <a:ext cx="2057400" cy="228600"/>
          </a:xfrm>
          <a:prstGeom prst="rect">
            <a:avLst/>
          </a:prstGeom>
          <a:solidFill>
            <a:srgbClr val="97d5c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ffffff"/>
                </a:solidFill>
                <a:latin typeface="Arial"/>
              </a:rPr>
              <a:t>Xforms Demo: Experiences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25520" y="1676160"/>
            <a:ext cx="82296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xForms is promising, mat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gration with Plex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ter document handling Size / Data retriev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yout xForms in css needs practi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ffffff"/>
                </a:solidFill>
                <a:latin typeface="Arial"/>
              </a:rPr>
              <a:t>Ideas for extension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25520" y="1479600"/>
            <a:ext cx="8229600" cy="47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hysical separation of Model and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yout as pure user-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tending the pattern around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upport for database-look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upling of printing/export fac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del-controlled structure for User-defin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cessing XML-results to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a-programming for panel-alter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25520" y="1479600"/>
            <a:ext cx="8229600" cy="47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3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ww.w3.org/MarkUp/Form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cah Dubinko Xforms essent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ttp://xformsinstitute.com/essentials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-port.net Lt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ww.formsplayer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STC University of Queens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xforms.dstc.edu.au/index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vel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veloper.novell.com/xform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ffffff"/>
                </a:solidFill>
                <a:latin typeface="Arial"/>
              </a:rPr>
              <a:t>Xforms Demo: Discussion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95480" y="4800600"/>
            <a:ext cx="59882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vries@remia.n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mon@kiboko.n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pt at www.kiboko.n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ffffff"/>
                </a:solidFill>
                <a:latin typeface="Arial"/>
              </a:rPr>
              <a:t>Flexibility in applications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25520" y="1479600"/>
            <a:ext cx="8229600" cy="47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pplication: Customer Relationship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quirement: high level of configu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For fast adaptation to business-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To empower us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xample: User Definable Data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xample: Document management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ffffff"/>
                </a:solidFill>
                <a:latin typeface="Arial"/>
              </a:rPr>
              <a:t>User definable data pattern and XML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479600"/>
            <a:ext cx="8610480" cy="47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o level (Feature / Feature aspect) representations of flexible data-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XML as a tool to provide ‘single screen’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XML-pattern for creation of ‘data-document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XSLT for ‘user-definable’ HTML-gen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se of XML extended beyond HTML-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hort 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Document Managemen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25520" y="1479600"/>
            <a:ext cx="8229600" cy="47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siness documents like ‘contracts’, ‘letters’, ‘invitations’, ‘resumes’, ‘product-specification-sheet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ser defines ‘ functional ‘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reation of actual Docs from Plex-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Handling of external application (e.g. MS-Wor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terfacing application-data to ‘document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upport for external applications programmed ‘individually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ffffff"/>
                </a:solidFill>
                <a:latin typeface="Arial"/>
              </a:rPr>
              <a:t>Document-managemen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295280" y="2819520"/>
          <a:ext cx="6400800" cy="316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2819520"/>
                    <a:ext cx="6400800" cy="31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5638680" y="4038480"/>
            <a:ext cx="1600200" cy="609840"/>
          </a:xfrm>
          <a:prstGeom prst="wedgeRoundRectCallout">
            <a:avLst>
              <a:gd name="adj1" fmla="val -51717"/>
              <a:gd name="adj2" fmla="val 66958"/>
              <a:gd name="adj3" fmla="val 16667"/>
            </a:avLst>
          </a:prstGeom>
          <a:solidFill>
            <a:srgbClr val="f582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unctional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2133720"/>
            <a:ext cx="1676520" cy="609480"/>
          </a:xfrm>
          <a:prstGeom prst="wedgeRoundRectCallout">
            <a:avLst>
              <a:gd name="adj1" fmla="val -77365"/>
              <a:gd name="adj2" fmla="val 80467"/>
              <a:gd name="adj3" fmla="val 16667"/>
            </a:avLst>
          </a:prstGeom>
          <a:solidFill>
            <a:srgbClr val="f582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echnical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895480"/>
            <a:ext cx="129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S-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S-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ffffff"/>
                </a:solidFill>
                <a:latin typeface="Arial"/>
              </a:rPr>
              <a:t>Flexibility: results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25520" y="1479600"/>
            <a:ext cx="8229600" cy="47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sults of Flexible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pecific layouts for specific purpo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Users like ‘single-screen’ over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sults of Docu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Fast configuration of ‘forms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General available competence: office-templ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ocuments ‘managed’ within appl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5520" y="2062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>
                <a:solidFill>
                  <a:srgbClr val="ffffff"/>
                </a:solidFill>
                <a:latin typeface="Arial"/>
              </a:rPr>
              <a:t>Flexibility: more to wish ?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25520" y="1479600"/>
            <a:ext cx="8229600" cy="47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rawbacks of Docu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formation inside not retriev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orage / transfer too cos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Too little ‘guidance’ / validation for users Us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a994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ingle-screen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a9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Users ask for ‘ Single-screen ‘ input instead of ‘wizards’ and ‘tabs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5T22:04:44Z</dcterms:created>
  <dc:creator>Remia C.V.</dc:creator>
  <dc:description/>
  <dc:language>en-US</dc:language>
  <cp:lastModifiedBy>Remia C.V.</cp:lastModifiedBy>
  <cp:lastPrinted>2004-10-29T14:44:45Z</cp:lastPrinted>
  <dcterms:modified xsi:type="dcterms:W3CDTF">2004-10-29T14:49:26Z</dcterms:modified>
  <cp:revision>42</cp:revision>
  <dc:subject/>
  <dc:title>X6: neXt pleX Xml fleXibility eXperience: Xforms</dc:title>
</cp:coreProperties>
</file>